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E2C45-C5B0-407C-8081-E7BE958DD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5759E-10F5-4ADE-81BB-FE1767F81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E545CA-7049-4182-B2D9-410D72780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B56F27-5FB7-4FC4-B15F-A65193519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1CB4E5-5ADF-4B71-B351-BBF10C319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DF3485-DC7B-47E6-AECE-10825ADCA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6ECB39-A801-4507-B2F5-75A617D60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2B03B6-7B1C-4CAA-B599-15D864144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E4E463-972F-4CDB-BC7C-72BEC684C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F793EA-2FF7-4CCA-BE08-0DC3E2947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15E242-C611-4FCF-A93E-0792804B4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409D2F-F750-4B63-9C7E-B32F43D55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F14DD-635A-46CB-9477-79E0789ED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832933-122C-4CF4-8BB5-88D934360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32F0F5-DFC8-4BC0-9423-DB22C648E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9B5B26-89B1-4CE9-8014-226F2224B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A2EA5F-8FD4-4EF8-8755-E34E93077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8F7E5C-E4F6-431E-8E68-D5802151D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578709-B876-4F71-9809-A3FBD91B6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4AC979-D664-49B0-855A-D1148031E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057B70-850F-4B81-B402-EF39E0171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67EB26-D96E-427C-B047-4840C5A3F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ADF374-FB5D-4C49-A016-681152607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62773-C33D-4113-B9F5-1969321E7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B39DBA-34EB-4418-B7CF-2A7FF7907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2C041B-4C75-4518-B9D9-CC24B766C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179702-1AF7-4003-AAD1-5BF120E86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5482B4-994D-4225-BFD5-909849AF3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1076FC-8795-4EEB-8493-073873C4E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FC0A28-2B76-459D-B922-016270C0C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00F4AA-F310-4229-9836-7EB674866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DBB794-0050-4DDB-B7F5-F1F36D401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DF77BF-1DB5-4836-97BC-B6CA0DC42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C60E57-4C53-4ADA-B70C-F97781733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14DE8-1642-42B9-A071-45C60AD4B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0EEB40-7490-44AD-B3B1-67F28597F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EAE56A-47E7-4196-80C6-512916AF1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AE7C9F-9F87-4C71-BD3C-ABFD004F5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7E84D6-071D-4927-AD64-E69B868E1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147711-CBC5-470E-ABAF-5F24F816D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906586-D1AC-4A80-BD45-27EBF8B19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943584-5EC5-4CF5-B7FD-3982935F3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6A037A-6C1B-45CC-A42C-0E6861FEE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6CC87F-924C-433A-9C48-F6EFA2406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1F377B-FF32-40EB-9586-5A3789F50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3DFD4-C1E6-432B-B94B-AD9591335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033235-FF1F-4C8A-95DC-2B73D5B20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76768E-97B9-40CB-902C-4766FF6A6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058EE7-1BB2-4BFA-A572-C3BD05678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397A55-EA7A-4EC8-BB76-A6BB16091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4D7814-0868-479B-8DD4-FF3091380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A10C361-5D3D-4DF9-A00A-DC6F8FC61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0BC0702-DD0A-4366-B836-D24C99A2B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653F374-F8BD-4AAD-9C61-5241A04FC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702B7F7-CA67-4E6A-9CB0-1B210895B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899DC22-9960-4058-9AFA-2BE8DD29E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61D23-9D84-488B-89EF-387FD9AFD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C51B33C-910E-49C8-8E1D-4C8E20BB6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D7EEFC2-C5EF-4F93-A61D-E2D0CF795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44FC3B1-ABA3-4CB9-91D8-04E09B2C1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EA4EACD-2653-48C8-AB8E-5B2B0B49E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F28216A-BA2A-4443-A198-B9C550DDA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DE2D4E1-F16E-40F6-8D9A-7D34E6BA4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57E7287-6819-40D8-A5BE-7B78B7986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F892263-FCE4-44AD-8BBC-EB803E266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73F6B64-4E03-4F9F-94DD-C9F6D9E87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7432BCE-FAEC-4593-A75A-5BA789C50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6E8AC-38DF-454B-92FB-4C9830471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9C0BCF7-01A4-4D0D-BB6A-BF6A31147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3E7E6BB-2383-48CD-AAE6-E8E550B8E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B2D3854-F3B1-4ED0-AD18-E15B22787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A1AA1B0-264A-485C-8B24-45A590169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EC42545-ADBD-428E-B286-EFC08B08E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A93310C-3CE0-418C-9F93-CF30B33FB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930DC24-E6CD-4535-88F3-B57BDACEE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1ACA6A4-1388-4FC5-B878-BBFBF1964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575F074-4EFA-4B31-B85F-8533B541F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CB877AF-0F21-4D92-8184-6174E3191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9E016-BEE7-45D2-808C-FCD090922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B9069C3-35E5-4CEA-A5F1-4D200DCE0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9C4088D-8AC9-4A7D-B14B-4DC57C2F7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98F7A56-5C4F-42AE-8D98-587510810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724BF19-C0DE-40AF-AC8C-B61A086E7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FFDBDEA-5ACA-4503-A423-8DB342646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071C2B5-F560-4CA3-8DA0-80DC782EB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ECEB210-AD34-45B6-ADDC-33421765C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EB2F343-2243-41D1-A7C8-05FDBEBBB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63E5215-2886-45A1-8C25-CDB2C28AC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5FF6A52-B215-4736-A3C0-2B2FF3D56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295C7-F931-49F7-B4F2-4F379E6CA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097306C-15C1-45F0-BAFA-701827FB0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98271BC-3CA0-4CF0-A897-90DA3F1DC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A933AF0-90BA-44B7-985F-0FC120106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7087A07-A0CF-4FCB-8F8A-22F681639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6BB7CA8-EF48-43AE-BD0B-E6E8CFC8D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69DD432-3DA9-4DA3-AA78-134B3A39C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56C7515-08B6-48D7-8624-BA7168668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A662AB1-04D6-466B-A779-F03B09C24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09B6C5F-E2E3-4118-A3AA-B33224A28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EFEEBA7-49A6-4B3E-AAB6-D73B999F6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3B22F-93F1-42D3-ADCD-E7DAD176F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87E7131-466A-44BA-A5DB-EB1117C5A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5E39C9F-6F82-4598-A2DD-EA964DF00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CB590E5-2B9C-4D5D-AF47-EAD6BB3F4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47BD482-BA55-4D71-A2F5-12CCFBABC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D1A9CF8-99A7-4B7D-8A3B-CD181DDAF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324FDCF-CB4F-4407-B120-DE8451E4B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BD9ACC0-DB29-4A5A-B491-6D93197E2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84F027C-F3F7-47E7-A40C-9D7EEE546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767A24C-E090-4DD8-B3AC-23C861115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B36647C-A717-47F7-82B6-168DAFE88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6828E-B3F5-4A53-BFDF-A9DD18177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86DDA-5585-4415-8A3D-DD145C197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C2438EB-6784-4093-878D-D91624185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C8EFD9A-A056-4139-B21B-1F5BE5111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DC65BBE-E8BD-41D9-8C1A-6DD00EA9B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DAA5B73-7CF6-4219-A2F3-C4BB49591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423EFA1-2503-49BC-9068-1AE78E660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398B0C0-FADA-4601-AA9E-EEA52228D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2E0F0C0-6D5C-4E28-ADD9-940D43AE8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28DD4BF-DB0C-4F8E-9308-9ED2B3793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58792F9-5A29-4311-82D6-80B47D6DE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5D6CE43-4D68-4067-9343-ED621C9CB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B1AF7-5B57-4459-846B-4B6AAEEA2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94F203F-0A05-4328-883C-089B9ADE3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6C1FA6D-9498-42EB-A025-2B112217F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D42B5C7-1812-43FE-BBB9-5147CA855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85DED0C-13DC-4020-A6E5-341263A75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AFCF13E-1B2F-4203-B49B-E5CB0A9E4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59710DD-B246-4F70-BB3A-874433060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80936F5-9CBE-42BE-818A-7246293FC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199A866-43D8-4C66-8674-C2F1E169C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DD93462-A469-4432-839C-87E3F4AEC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AB1AA5C-F3A9-4FCF-95A9-5A65FD014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D4E5D-E336-4459-8D3B-63E8D3544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85C08CF-D557-4CE7-8A07-8D9D51FD1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8C76A2D-B07E-4F61-B47C-40A531A51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4F62827-AF5E-4AE3-9803-5DF6C57CB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46256AD-E1C5-428D-BA89-AC5ECD264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61C1663-F577-4621-AA22-B4CC9651B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E6A5DB3-F1BE-4719-BF8E-2C5BD8BDB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1AA6F6A-D64C-48E6-ADA1-ECE620D75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0009F8F-14F7-4B52-9F66-3E0B3EFA1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B5F9BEA-4298-4515-BE0D-08E883EA7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1EE6C93-9F25-4BB1-8527-06FF1E1F5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CE1C9-54D0-4477-82A9-C8EF002AC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C91077D-14D8-44E2-A710-9263E5426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A109968-9A5D-49E6-8450-ED6801DC0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5FF2462-D5DD-4682-A431-ED51AFDA5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AD0A761-03C5-4991-8D49-3508998FB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3BBCB3C-587B-43B4-B7CC-E9EAD7DA4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297D399-E506-477E-A814-E61936CA5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B6E128A-CBB1-47CA-88F3-97A9B54EC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BAB1B14-57BC-49D1-9BBA-F0E2472AA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E24B304-F5BD-4A97-B179-25E90EE0B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15F21B3-FCA1-49C5-BE37-ED4DA5C60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7616D-AC22-45F8-81F7-658D58948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B44DD1F-F5DC-420C-8EF5-A5D938789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C004C02-CF6A-4957-979E-08A667767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C431ADF-B75C-486D-8DAC-B6EB3A617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E2D3E8F-1C30-4302-870F-8BEE5404F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7444642-00D3-473C-9C2A-41867C453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4E1D143-E7D9-459F-BB02-8CC1C4AA8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AD64B2A-AEE9-4286-A242-B37BE89B6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BCB8AAA-4387-46D4-AC1A-8700A129D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68CA8DE-29DC-4151-AA41-2137977DB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84AC96C-D053-4A77-8504-D04A16237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37FBAF-3427-4729-98F6-24B2334A4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8F94845-BCA1-42E9-800C-9F5326C83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45112AC-F214-415A-84E0-C687B874F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D00D67F-189E-4E74-BCD2-21EF4581A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27CA8A-3B4A-4FE5-864D-90A7F1494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0D9495-1B25-4E9A-911C-79ED4CA36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61E7F4-DDF1-413F-B5F1-1757FFCCE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525D00-F036-41BE-8DA2-30B1665C7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23D0D-B882-4DA2-826C-299D242C3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CAF934-21B8-46F9-87E1-98F5BD69E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579480-D777-40C1-B3EE-177143B4D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274171-C62B-4283-A51F-5283E3A58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1BCD47-0DD1-4F50-9B7A-65F0C9480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575E82-09E8-4911-91AB-AF40E5FF3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67A75F-9AA7-44A0-962C-5D4E65868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F3D291-C331-4C65-8980-308D9BF2A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AE7BCF-33CE-49A4-BA42-F4414E6D0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243D38-B153-4748-BEB7-98F504AF0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DA3223-46B0-4EEB-AE15-B1FF5BBDE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53D80-2F51-44C9-B4FF-3122154E8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1C0F17-F545-4E48-BEED-1A130188B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15A31D-8FC5-43A5-8CA7-5CB22C932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F720F7-3C89-4A11-BEB5-362FC0007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88AB28-323D-43B6-A749-18E6089A1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7A97BB-63BB-4A9C-807C-1F3E111F3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4F64B5-18D4-4C67-AF3F-7C1F92425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A72C25-9317-48EC-B510-5F2A62398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609743-E289-4F9D-A6DD-BBD3C7280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A8D839-49AB-491A-8BDD-7220A7D9B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4631C4-6C9A-4C0C-8ECE-A2DAC1DF0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67116-1BE1-4DD4-8E84-CBE634527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12FEB9-9C2D-49C8-B2B4-582C343B3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94BA42-C938-47CB-97DC-22A17E5A4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6949EB-7F5F-4501-AB4B-7530763FE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669080-E72B-4F53-BBCF-F96A30A06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9F08DA-4607-4D61-9720-9F18C29F4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6827A0-E9FF-4F7D-A92D-4E9CABF63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F9291D-BFEA-4179-A2C5-B4BDAEB3B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3494D3-908F-423F-8CFA-5C918F611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179C00-D01D-4462-A290-437342B50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808723-8986-4CE2-AC7A-FC13D420D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3784F-4FA0-4B2A-A4D4-33BA0C3B2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9C24A2-168E-4F5B-ACA4-C10399FD4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DD6513-4765-42A8-A315-24CC0F2EC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083F79-F46F-4D62-9159-9CF07AF66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6C15E6-7C25-45F3-8394-895106DC0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CAC6B0-1363-4359-9AEA-31AAB7696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2994A2-F32D-4F7D-8E8F-BA34DC6E2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F9D874-6979-4BF8-B59E-7A4AF524A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99AF2E-25A5-45E1-B32B-32F333F95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FA11AF-2FD3-4D0E-8922-CAF588756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19E560-D1F7-4568-A1B7-EED417D39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26333-6DFB-4720-A004-D49570ECD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97F075-D533-4C6E-B2F9-AF5B1741D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C8EADD-A423-41C3-978D-BB81E7CC5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E076D6-493F-4BB6-B409-294AEEB93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B18175-A4F5-4390-8E36-B891D2644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4FE2E0-0F00-4C0C-80A2-13F5FA415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FAA42C-EE04-4C2D-A19D-ABB00CEC4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E7E79E-FD39-4523-B3AB-3F3586CCA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AB3689-A23A-4D57-80FF-EC5F237BB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3F89FE-1126-451F-BFEA-26BA3A86A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65C6F7-8ED0-4A23-9EF1-B95E740A2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33521-9F85-4CC1-828E-14E2C3ADC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1D9EBD-D060-4330-BA62-3CE7BBC54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D87E59-DD03-4715-8661-B40404EDE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8CD0DC-0122-435B-A8C7-A27909E36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3D44D9-530A-4D64-98A0-9B7306024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C5E8F1-41DE-474D-BADB-3B812F7C2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52AA8A-3311-4963-95F6-1B87C41AD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C43346-B9EF-458A-8672-A2AA60AD9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12536F-AD94-4060-8D9A-C74BAB1DC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1BC96E-3181-4DAB-8F81-7AC049A64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1ADF5E-C8E9-4A56-B7B6-0561C1D67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339DC-01FD-4615-A7C5-31D9AF2D1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FDAB05-9D11-4D60-9F09-1D9DCE81F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4D13B3-40F8-427B-804D-E07FBA5A8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DF91C6-107D-47E2-B368-44B2D07A5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909D6F-25CF-4C98-87D4-48C35594B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8CD795-8BAE-4C37-B970-D25DDC1AC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6857F8-472E-4B3C-93AD-9182594CE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A7091B-96AE-49A6-BAA9-4F0AD8C36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4A8C56-A676-4345-B462-285BC47A0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4AFDD0-7B45-4F85-B0E0-ED5AD59B6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868113-1E67-4693-A713-752A38F67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9AF7F-0644-4420-8748-A5A9477E376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C1973-673B-4679-AD48-538E25A8BD3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7AE70-2ACB-4A25-9E1F-E76361A98FF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90D5F-80DC-4E68-9B96-91CB7745D1E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F8E65-D40E-46DA-BC89-16A8CF7CE1C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F0D48-6922-4F08-B924-C2F920316AB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CCB19-38D6-454F-B90F-AF3859C687E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B0A92-7398-46CD-A4E1-A4834221C90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E9907-192A-4983-B41A-39ECCCE3297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50F07-EFA7-44D5-A138-446E007DF4E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DA9B7-9728-4237-8D2E-434CADFCBC2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9C6EA-294C-4CFD-B6F7-0C601A0330A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DA81F-6FD9-4E31-8C2B-9AA7408108D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8F2DC-8BA0-4E08-AD2B-53D0DDA810F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F8B86-8DD3-4EC8-963E-517D198B4BF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AACA6-2B7A-42FB-966C-EB229D3A626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EF79E-D436-49BD-A600-44C2AA8AFE4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7BCD1-2746-4762-95ED-CE17941B41F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7ECD2-B5DC-404D-BDE3-E53DEBD2810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3E889-E938-4D8C-86F8-A8EF0037789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BFD94-889F-4E85-B856-7E4C0994188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0B3F6-7559-4AA7-9701-868ECDA16BE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2E68C-E900-40EE-867B-56111703E0C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1A365-C1CE-4C28-9028-C2F91E5BF7E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3E4FF-C56B-4A3B-A10C-0ACEE74D6EA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128CA-D15A-4446-BF8C-E082C2E1DCC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47A88-0E3A-4D3E-9345-E4529380632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BE1AF-45E5-4460-93F0-A871B3D231C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32D3D-C5EA-452C-B3CB-F01EAB251A6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29BFE-3B7C-4E33-835E-05E9A5016E1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C2AF8-6430-4EEF-8E7F-D87D5AF162C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B39D2-6A2F-4E8B-9114-436809E5745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A74DA-35EF-42B9-B37E-0A3F5826F9C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9DAB4-2847-4272-9849-29AC23A7E1E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E7D29-0F55-4522-ACA6-7E48EE6F063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986B5-28B9-4AA6-9358-A54C57A599A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6F7B8-DFDC-4FDF-9E4E-CC39716E655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7FF95-340C-420C-9C02-F6D169045EC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B9D09-8D95-41C0-BA21-48007BC1DC9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815BA-5890-4876-8FE7-EB186A617F2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2314440" y="2943360"/>
            <a:ext cx="4515120" cy="97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6" name="图片 69633" descr=""/>
          <p:cNvPicPr/>
          <p:nvPr/>
        </p:nvPicPr>
        <p:blipFill>
          <a:blip r:embed="rId1"/>
          <a:stretch/>
        </p:blipFill>
        <p:spPr>
          <a:xfrm>
            <a:off x="318960" y="703440"/>
            <a:ext cx="8506080" cy="5533920"/>
          </a:xfrm>
          <a:prstGeom prst="rect">
            <a:avLst/>
          </a:prstGeom>
          <a:ln w="0">
            <a:noFill/>
          </a:ln>
        </p:spPr>
      </p:pic>
      <p:pic>
        <p:nvPicPr>
          <p:cNvPr id="957" name="Picture 1" descr=""/>
          <p:cNvPicPr/>
          <p:nvPr/>
        </p:nvPicPr>
        <p:blipFill>
          <a:blip r:embed="rId2"/>
          <a:stretch/>
        </p:blipFill>
        <p:spPr>
          <a:xfrm>
            <a:off x="1187280" y="2909880"/>
            <a:ext cx="5256360" cy="879480"/>
          </a:xfrm>
          <a:prstGeom prst="rect">
            <a:avLst/>
          </a:prstGeom>
          <a:ln w="0">
            <a:noFill/>
          </a:ln>
        </p:spPr>
      </p:pic>
      <p:pic>
        <p:nvPicPr>
          <p:cNvPr id="958" name="Picture 1" descr=""/>
          <p:cNvPicPr/>
          <p:nvPr/>
        </p:nvPicPr>
        <p:blipFill>
          <a:blip r:embed="rId3"/>
          <a:stretch/>
        </p:blipFill>
        <p:spPr>
          <a:xfrm>
            <a:off x="755640" y="4005360"/>
            <a:ext cx="5256360" cy="879480"/>
          </a:xfrm>
          <a:prstGeom prst="rect">
            <a:avLst/>
          </a:prstGeom>
          <a:ln w="0">
            <a:noFill/>
          </a:ln>
        </p:spPr>
      </p:pic>
      <p:pic>
        <p:nvPicPr>
          <p:cNvPr id="959" name="Picture 1" descr=""/>
          <p:cNvPicPr/>
          <p:nvPr/>
        </p:nvPicPr>
        <p:blipFill>
          <a:blip r:embed="rId4"/>
          <a:stretch/>
        </p:blipFill>
        <p:spPr>
          <a:xfrm>
            <a:off x="900000" y="5084640"/>
            <a:ext cx="3816360" cy="447840"/>
          </a:xfrm>
          <a:prstGeom prst="rect">
            <a:avLst/>
          </a:prstGeom>
          <a:ln w="0">
            <a:noFill/>
          </a:ln>
        </p:spPr>
      </p:pic>
      <p:pic>
        <p:nvPicPr>
          <p:cNvPr id="960" name="Picture 1" descr=""/>
          <p:cNvPicPr/>
          <p:nvPr/>
        </p:nvPicPr>
        <p:blipFill>
          <a:blip r:embed="rId5"/>
          <a:stretch/>
        </p:blipFill>
        <p:spPr>
          <a:xfrm>
            <a:off x="826920" y="5748480"/>
            <a:ext cx="496908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8" dur="10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3" dur="10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8" dur="10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3" dur="10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2" name="图片 60428" descr=""/>
          <p:cNvPicPr/>
          <p:nvPr/>
        </p:nvPicPr>
        <p:blipFill>
          <a:blip r:embed="rId1"/>
          <a:stretch/>
        </p:blipFill>
        <p:spPr>
          <a:xfrm>
            <a:off x="304920" y="819000"/>
            <a:ext cx="8534160" cy="5220000"/>
          </a:xfrm>
          <a:prstGeom prst="rect">
            <a:avLst/>
          </a:prstGeom>
          <a:ln w="0">
            <a:noFill/>
          </a:ln>
        </p:spPr>
      </p:pic>
      <p:pic>
        <p:nvPicPr>
          <p:cNvPr id="923" name="Picture 1" descr=""/>
          <p:cNvPicPr/>
          <p:nvPr/>
        </p:nvPicPr>
        <p:blipFill>
          <a:blip r:embed="rId2"/>
          <a:stretch/>
        </p:blipFill>
        <p:spPr>
          <a:xfrm>
            <a:off x="3059280" y="3040200"/>
            <a:ext cx="502920" cy="44748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1" descr=""/>
          <p:cNvPicPr/>
          <p:nvPr/>
        </p:nvPicPr>
        <p:blipFill>
          <a:blip r:embed="rId3"/>
          <a:stretch/>
        </p:blipFill>
        <p:spPr>
          <a:xfrm>
            <a:off x="4500720" y="3284640"/>
            <a:ext cx="502920" cy="44748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1" descr=""/>
          <p:cNvPicPr/>
          <p:nvPr/>
        </p:nvPicPr>
        <p:blipFill>
          <a:blip r:embed="rId4"/>
          <a:stretch/>
        </p:blipFill>
        <p:spPr>
          <a:xfrm>
            <a:off x="5940360" y="328464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1" descr=""/>
          <p:cNvPicPr/>
          <p:nvPr/>
        </p:nvPicPr>
        <p:blipFill>
          <a:blip r:embed="rId5"/>
          <a:stretch/>
        </p:blipFill>
        <p:spPr>
          <a:xfrm>
            <a:off x="7451640" y="3284640"/>
            <a:ext cx="1081080" cy="44748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1" descr=""/>
          <p:cNvPicPr/>
          <p:nvPr/>
        </p:nvPicPr>
        <p:blipFill>
          <a:blip r:embed="rId6"/>
          <a:stretch/>
        </p:blipFill>
        <p:spPr>
          <a:xfrm>
            <a:off x="2340000" y="5516640"/>
            <a:ext cx="86508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10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10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8" name="图片 59410" descr=""/>
          <p:cNvPicPr/>
          <p:nvPr/>
        </p:nvPicPr>
        <p:blipFill>
          <a:blip r:embed="rId1"/>
          <a:stretch/>
        </p:blipFill>
        <p:spPr>
          <a:xfrm>
            <a:off x="666720" y="1814400"/>
            <a:ext cx="7810560" cy="322920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1" descr=""/>
          <p:cNvPicPr/>
          <p:nvPr/>
        </p:nvPicPr>
        <p:blipFill>
          <a:blip r:embed="rId2"/>
          <a:stretch/>
        </p:blipFill>
        <p:spPr>
          <a:xfrm>
            <a:off x="4067280" y="2535120"/>
            <a:ext cx="936360" cy="44784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1" descr=""/>
          <p:cNvPicPr/>
          <p:nvPr/>
        </p:nvPicPr>
        <p:blipFill>
          <a:blip r:embed="rId3"/>
          <a:stretch/>
        </p:blipFill>
        <p:spPr>
          <a:xfrm>
            <a:off x="3635280" y="4508640"/>
            <a:ext cx="720720" cy="447480"/>
          </a:xfrm>
          <a:prstGeom prst="rect">
            <a:avLst/>
          </a:prstGeom>
          <a:ln w="0">
            <a:noFill/>
          </a:ln>
        </p:spPr>
      </p:pic>
      <p:pic>
        <p:nvPicPr>
          <p:cNvPr id="931" name="Picture 1" descr=""/>
          <p:cNvPicPr/>
          <p:nvPr/>
        </p:nvPicPr>
        <p:blipFill>
          <a:blip r:embed="rId4"/>
          <a:stretch/>
        </p:blipFill>
        <p:spPr>
          <a:xfrm>
            <a:off x="5435640" y="4508640"/>
            <a:ext cx="72072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10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10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10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2" name="图片 58373" descr=""/>
          <p:cNvPicPr/>
          <p:nvPr/>
        </p:nvPicPr>
        <p:blipFill>
          <a:blip r:embed="rId1"/>
          <a:stretch/>
        </p:blipFill>
        <p:spPr>
          <a:xfrm>
            <a:off x="347760" y="708120"/>
            <a:ext cx="8448480" cy="5600520"/>
          </a:xfrm>
          <a:prstGeom prst="rect">
            <a:avLst/>
          </a:prstGeom>
          <a:ln w="0">
            <a:noFill/>
          </a:ln>
        </p:spPr>
      </p:pic>
      <p:pic>
        <p:nvPicPr>
          <p:cNvPr id="933" name="Picture 1" descr=""/>
          <p:cNvPicPr/>
          <p:nvPr/>
        </p:nvPicPr>
        <p:blipFill>
          <a:blip r:embed="rId2"/>
          <a:stretch/>
        </p:blipFill>
        <p:spPr>
          <a:xfrm>
            <a:off x="826920" y="2852640"/>
            <a:ext cx="4392720" cy="447840"/>
          </a:xfrm>
          <a:prstGeom prst="rect">
            <a:avLst/>
          </a:prstGeom>
          <a:ln w="0">
            <a:noFill/>
          </a:ln>
        </p:spPr>
      </p:pic>
      <p:pic>
        <p:nvPicPr>
          <p:cNvPr id="934" name="Picture 1" descr=""/>
          <p:cNvPicPr/>
          <p:nvPr/>
        </p:nvPicPr>
        <p:blipFill>
          <a:blip r:embed="rId3"/>
          <a:stretch/>
        </p:blipFill>
        <p:spPr>
          <a:xfrm>
            <a:off x="826920" y="3573360"/>
            <a:ext cx="4392720" cy="935280"/>
          </a:xfrm>
          <a:prstGeom prst="rect">
            <a:avLst/>
          </a:prstGeom>
          <a:ln w="0">
            <a:noFill/>
          </a:ln>
        </p:spPr>
      </p:pic>
      <p:pic>
        <p:nvPicPr>
          <p:cNvPr id="935" name="Picture 1" descr=""/>
          <p:cNvPicPr/>
          <p:nvPr/>
        </p:nvPicPr>
        <p:blipFill>
          <a:blip r:embed="rId4"/>
          <a:stretch/>
        </p:blipFill>
        <p:spPr>
          <a:xfrm>
            <a:off x="826920" y="4724280"/>
            <a:ext cx="4392720" cy="935280"/>
          </a:xfrm>
          <a:prstGeom prst="rect">
            <a:avLst/>
          </a:prstGeom>
          <a:ln w="0">
            <a:noFill/>
          </a:ln>
        </p:spPr>
      </p:pic>
      <p:pic>
        <p:nvPicPr>
          <p:cNvPr id="936" name="Picture 1" descr=""/>
          <p:cNvPicPr/>
          <p:nvPr/>
        </p:nvPicPr>
        <p:blipFill>
          <a:blip r:embed="rId5"/>
          <a:stretch/>
        </p:blipFill>
        <p:spPr>
          <a:xfrm>
            <a:off x="684360" y="5848200"/>
            <a:ext cx="784836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0" dur="10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5" dur="10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0" dur="10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5" dur="10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7" name="图片 57352" descr=""/>
          <p:cNvPicPr/>
          <p:nvPr/>
        </p:nvPicPr>
        <p:blipFill>
          <a:blip r:embed="rId1"/>
          <a:stretch/>
        </p:blipFill>
        <p:spPr>
          <a:xfrm>
            <a:off x="324000" y="1828800"/>
            <a:ext cx="84960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图片 56324" descr=""/>
          <p:cNvPicPr/>
          <p:nvPr/>
        </p:nvPicPr>
        <p:blipFill>
          <a:blip r:embed="rId1"/>
          <a:stretch/>
        </p:blipFill>
        <p:spPr>
          <a:xfrm>
            <a:off x="590400" y="1071720"/>
            <a:ext cx="7963200" cy="471456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1" descr=""/>
          <p:cNvPicPr/>
          <p:nvPr/>
        </p:nvPicPr>
        <p:blipFill>
          <a:blip r:embed="rId2"/>
          <a:stretch/>
        </p:blipFill>
        <p:spPr>
          <a:xfrm>
            <a:off x="684360" y="1252440"/>
            <a:ext cx="5616360" cy="808200"/>
          </a:xfrm>
          <a:prstGeom prst="rect">
            <a:avLst/>
          </a:prstGeom>
          <a:ln w="0">
            <a:noFill/>
          </a:ln>
        </p:spPr>
      </p:pic>
      <p:pic>
        <p:nvPicPr>
          <p:cNvPr id="940" name="Picture 1" descr=""/>
          <p:cNvPicPr/>
          <p:nvPr/>
        </p:nvPicPr>
        <p:blipFill>
          <a:blip r:embed="rId3"/>
          <a:stretch/>
        </p:blipFill>
        <p:spPr>
          <a:xfrm>
            <a:off x="684360" y="2421000"/>
            <a:ext cx="5616360" cy="807840"/>
          </a:xfrm>
          <a:prstGeom prst="rect">
            <a:avLst/>
          </a:prstGeom>
          <a:ln w="0">
            <a:noFill/>
          </a:ln>
        </p:spPr>
      </p:pic>
      <p:pic>
        <p:nvPicPr>
          <p:cNvPr id="941" name="Picture 1" descr=""/>
          <p:cNvPicPr/>
          <p:nvPr/>
        </p:nvPicPr>
        <p:blipFill>
          <a:blip r:embed="rId4"/>
          <a:stretch/>
        </p:blipFill>
        <p:spPr>
          <a:xfrm>
            <a:off x="755640" y="3573360"/>
            <a:ext cx="5616720" cy="935280"/>
          </a:xfrm>
          <a:prstGeom prst="rect">
            <a:avLst/>
          </a:prstGeom>
          <a:ln w="0">
            <a:noFill/>
          </a:ln>
        </p:spPr>
      </p:pic>
      <p:pic>
        <p:nvPicPr>
          <p:cNvPr id="942" name="Picture 1" descr=""/>
          <p:cNvPicPr/>
          <p:nvPr/>
        </p:nvPicPr>
        <p:blipFill>
          <a:blip r:embed="rId5"/>
          <a:stretch/>
        </p:blipFill>
        <p:spPr>
          <a:xfrm>
            <a:off x="468360" y="4638600"/>
            <a:ext cx="8136000" cy="138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2" dur="10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7" dur="10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2" dur="10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7" dur="10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图片 55300" descr=""/>
          <p:cNvPicPr/>
          <p:nvPr/>
        </p:nvPicPr>
        <p:blipFill>
          <a:blip r:embed="rId1"/>
          <a:stretch/>
        </p:blipFill>
        <p:spPr>
          <a:xfrm>
            <a:off x="314280" y="485640"/>
            <a:ext cx="8515440" cy="5896080"/>
          </a:xfrm>
          <a:prstGeom prst="rect">
            <a:avLst/>
          </a:prstGeom>
          <a:ln w="0">
            <a:noFill/>
          </a:ln>
        </p:spPr>
      </p:pic>
      <p:pic>
        <p:nvPicPr>
          <p:cNvPr id="944" name="Picture 1" descr=""/>
          <p:cNvPicPr/>
          <p:nvPr/>
        </p:nvPicPr>
        <p:blipFill>
          <a:blip r:embed="rId2"/>
          <a:stretch/>
        </p:blipFill>
        <p:spPr>
          <a:xfrm>
            <a:off x="971640" y="2637000"/>
            <a:ext cx="5905440" cy="936360"/>
          </a:xfrm>
          <a:prstGeom prst="rect">
            <a:avLst/>
          </a:prstGeom>
          <a:ln w="0">
            <a:noFill/>
          </a:ln>
        </p:spPr>
      </p:pic>
      <p:pic>
        <p:nvPicPr>
          <p:cNvPr id="945" name="Picture 1" descr=""/>
          <p:cNvPicPr/>
          <p:nvPr/>
        </p:nvPicPr>
        <p:blipFill>
          <a:blip r:embed="rId3"/>
          <a:stretch/>
        </p:blipFill>
        <p:spPr>
          <a:xfrm>
            <a:off x="1042920" y="3716280"/>
            <a:ext cx="5905440" cy="936720"/>
          </a:xfrm>
          <a:prstGeom prst="rect">
            <a:avLst/>
          </a:prstGeom>
          <a:ln w="0">
            <a:noFill/>
          </a:ln>
        </p:spPr>
      </p:pic>
      <p:pic>
        <p:nvPicPr>
          <p:cNvPr id="946" name="Picture 1" descr=""/>
          <p:cNvPicPr/>
          <p:nvPr/>
        </p:nvPicPr>
        <p:blipFill>
          <a:blip r:embed="rId4"/>
          <a:stretch/>
        </p:blipFill>
        <p:spPr>
          <a:xfrm>
            <a:off x="900000" y="4869000"/>
            <a:ext cx="5905440" cy="936360"/>
          </a:xfrm>
          <a:prstGeom prst="rect">
            <a:avLst/>
          </a:prstGeom>
          <a:ln w="0">
            <a:noFill/>
          </a:ln>
        </p:spPr>
      </p:pic>
      <p:pic>
        <p:nvPicPr>
          <p:cNvPr id="947" name="Picture 1" descr=""/>
          <p:cNvPicPr/>
          <p:nvPr/>
        </p:nvPicPr>
        <p:blipFill>
          <a:blip r:embed="rId5"/>
          <a:stretch/>
        </p:blipFill>
        <p:spPr>
          <a:xfrm>
            <a:off x="971640" y="5964120"/>
            <a:ext cx="777708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4" dur="10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9" dur="10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4" dur="10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9" dur="10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8" name="图片 54276" descr=""/>
          <p:cNvPicPr/>
          <p:nvPr/>
        </p:nvPicPr>
        <p:blipFill>
          <a:blip r:embed="rId1"/>
          <a:stretch/>
        </p:blipFill>
        <p:spPr>
          <a:xfrm>
            <a:off x="314280" y="2124000"/>
            <a:ext cx="8515440" cy="26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9" name="图片 52231" descr=""/>
          <p:cNvPicPr/>
          <p:nvPr/>
        </p:nvPicPr>
        <p:blipFill>
          <a:blip r:embed="rId1"/>
          <a:stretch/>
        </p:blipFill>
        <p:spPr>
          <a:xfrm>
            <a:off x="681120" y="685800"/>
            <a:ext cx="7781760" cy="5838840"/>
          </a:xfrm>
          <a:prstGeom prst="rect">
            <a:avLst/>
          </a:prstGeom>
          <a:ln w="0">
            <a:noFill/>
          </a:ln>
        </p:spPr>
      </p:pic>
      <p:pic>
        <p:nvPicPr>
          <p:cNvPr id="950" name="Picture 1" descr=""/>
          <p:cNvPicPr/>
          <p:nvPr/>
        </p:nvPicPr>
        <p:blipFill>
          <a:blip r:embed="rId2"/>
          <a:stretch/>
        </p:blipFill>
        <p:spPr>
          <a:xfrm>
            <a:off x="611280" y="820800"/>
            <a:ext cx="6840360" cy="447480"/>
          </a:xfrm>
          <a:prstGeom prst="rect">
            <a:avLst/>
          </a:prstGeom>
          <a:ln w="0">
            <a:noFill/>
          </a:ln>
        </p:spPr>
      </p:pic>
      <p:pic>
        <p:nvPicPr>
          <p:cNvPr id="951" name="Picture 1" descr=""/>
          <p:cNvPicPr/>
          <p:nvPr/>
        </p:nvPicPr>
        <p:blipFill>
          <a:blip r:embed="rId3"/>
          <a:stretch/>
        </p:blipFill>
        <p:spPr>
          <a:xfrm>
            <a:off x="539640" y="1413000"/>
            <a:ext cx="6840720" cy="447480"/>
          </a:xfrm>
          <a:prstGeom prst="rect">
            <a:avLst/>
          </a:prstGeom>
          <a:ln w="0">
            <a:noFill/>
          </a:ln>
        </p:spPr>
      </p:pic>
      <p:pic>
        <p:nvPicPr>
          <p:cNvPr id="952" name="Picture 1" descr=""/>
          <p:cNvPicPr/>
          <p:nvPr/>
        </p:nvPicPr>
        <p:blipFill>
          <a:blip r:embed="rId4"/>
          <a:stretch/>
        </p:blipFill>
        <p:spPr>
          <a:xfrm>
            <a:off x="539640" y="2133720"/>
            <a:ext cx="6840720" cy="863640"/>
          </a:xfrm>
          <a:prstGeom prst="rect">
            <a:avLst/>
          </a:prstGeom>
          <a:ln w="0">
            <a:noFill/>
          </a:ln>
        </p:spPr>
      </p:pic>
      <p:pic>
        <p:nvPicPr>
          <p:cNvPr id="953" name="Picture 1" descr=""/>
          <p:cNvPicPr/>
          <p:nvPr/>
        </p:nvPicPr>
        <p:blipFill>
          <a:blip r:embed="rId5"/>
          <a:stretch/>
        </p:blipFill>
        <p:spPr>
          <a:xfrm>
            <a:off x="468360" y="3284640"/>
            <a:ext cx="6840360" cy="863640"/>
          </a:xfrm>
          <a:prstGeom prst="rect">
            <a:avLst/>
          </a:prstGeom>
          <a:ln w="0">
            <a:noFill/>
          </a:ln>
        </p:spPr>
      </p:pic>
      <p:pic>
        <p:nvPicPr>
          <p:cNvPr id="954" name="Picture 1" descr=""/>
          <p:cNvPicPr/>
          <p:nvPr/>
        </p:nvPicPr>
        <p:blipFill>
          <a:blip r:embed="rId6"/>
          <a:stretch/>
        </p:blipFill>
        <p:spPr>
          <a:xfrm>
            <a:off x="395280" y="4365720"/>
            <a:ext cx="6840720" cy="863640"/>
          </a:xfrm>
          <a:prstGeom prst="rect">
            <a:avLst/>
          </a:prstGeom>
          <a:ln w="0">
            <a:noFill/>
          </a:ln>
        </p:spPr>
      </p:pic>
      <p:pic>
        <p:nvPicPr>
          <p:cNvPr id="955" name="Picture 1" descr=""/>
          <p:cNvPicPr/>
          <p:nvPr/>
        </p:nvPicPr>
        <p:blipFill>
          <a:blip r:embed="rId7"/>
          <a:stretch/>
        </p:blipFill>
        <p:spPr>
          <a:xfrm>
            <a:off x="395280" y="5373720"/>
            <a:ext cx="8280360" cy="11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6" dur="10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1" dur="10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6" dur="10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1" dur="10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6" dur="10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1" dur="10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22T01:09:39Z</dcterms:modified>
  <cp:revision>2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